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294813" cy="6883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4142-E285-4C07-A52F-14748D11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7002-A71F-4A07-9FE3-EC451DC8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58D5-AF8B-49AD-BCED-D63FD1DA0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E542-91CE-49A6-B111-3EC6D248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BC22-097B-4B85-8811-8835D2A6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C008-DD9B-4428-946F-42227CD9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8C1C-8849-48D1-85DC-51D40014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C971-F833-4E89-B232-083510FF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46B0-AA04-4D78-B20F-40FF2EE3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09A4-15DD-495C-B743-4ECD581D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1587-C008-4F0E-8353-BC0EC2EC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ADC7-A3D1-4647-8F95-0457D19A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5440" indent="-32544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6320" indent="-271440">
              <a:spcBef>
                <a:spcPts val="751"/>
              </a:spcBef>
              <a:buClr>
                <a:srgbClr val="000000"/>
              </a:buClr>
              <a:buFont typeface="Calibri"/>
              <a:buChar char="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9000" indent="-21600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25680" indent="-216000">
              <a:spcBef>
                <a:spcPts val="751"/>
              </a:spcBef>
              <a:buClr>
                <a:srgbClr val="000000"/>
              </a:buClr>
              <a:buFont typeface="Calibri"/>
              <a:buChar char="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D22A-7B47-4FB1-A4D4-EB4182C7572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322360" y="239760"/>
            <a:ext cx="446112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NOMBRE DEL PROVEEDOR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DOMICILIO DEL PROVEEDOR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REGISTRO FEDERAL DE CONTRIBUYENTES: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TELÉFON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322360" y="252360"/>
            <a:ext cx="4499280" cy="744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6886440" y="254160"/>
            <a:ext cx="2160720" cy="722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6886440" y="249120"/>
            <a:ext cx="2160720" cy="2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UNDAMENTO LEGAL DE ADJUDICA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85000" y="647640"/>
            <a:ext cx="210960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DALIDAD DE LA ADJUDICA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27400" y="1057320"/>
            <a:ext cx="4497120" cy="5000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2322360" y="1603440"/>
            <a:ext cx="4499280" cy="4363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2322360" y="2081160"/>
            <a:ext cx="4499280" cy="636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6886440" y="1050840"/>
            <a:ext cx="2159280" cy="381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6886440" y="1479600"/>
            <a:ext cx="215928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6886440" y="1924200"/>
            <a:ext cx="215928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6886440" y="2376360"/>
            <a:ext cx="2159280" cy="381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96840" y="10540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96840" y="14860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96840" y="19288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96840" y="236376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96840" y="1062000"/>
            <a:ext cx="149220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ECHA DE FIRM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96840" y="1494000"/>
            <a:ext cx="2109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NÚMERO DE PEDID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96840" y="2355840"/>
            <a:ext cx="210996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ARTIDA PRESUPUESTARI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1382760" y="1914480"/>
            <a:ext cx="82404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REQUISI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2309760" y="1593720"/>
            <a:ext cx="442296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VIGENCIA DEL PEDIDO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8"/>
          <p:cNvSpPr/>
          <p:nvPr/>
        </p:nvSpPr>
        <p:spPr>
          <a:xfrm>
            <a:off x="2309760" y="1050840"/>
            <a:ext cx="4473720" cy="2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LUGAR DE ENTREGA DE LOS BIENES (CONDICIONES ESPECIALES)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1382760" y="1924200"/>
            <a:ext cx="0" cy="380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309760" y="2103480"/>
            <a:ext cx="452448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UNDAMENTO LEGAL Y PLAZO PARA EFECTUAR EL PAG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 TÉRMINOS DEL ARTÍCULO 51 DE LA LEY DE ADQUISICIONES, ARRENDAMIENTOS Y SERVICIOS DEL SECTOR PÚBLICO, LOS PAGOS QUE SE GENEREN SE REALIZARÁN DENTRO DE LOS 20 (VEINTE) DÍAS NATURALES CONTADOS A PARTIR DE LA ENTREGA DE LAS FACTURAS RESPECTIVAS, UNA VEZ ENTREGADOS LOS BIENES A ENTERA SATISFACCIÓN DEL ÁREA REQUIRENTE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6886440" y="1427040"/>
            <a:ext cx="2108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NTO DE LA PÓLIZA DE RESPONSABILIDAD CIVIL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6886440" y="1015920"/>
            <a:ext cx="210816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ORCENTAJE DE PENA CONVENCIONAL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3"/>
          <p:cNvSpPr/>
          <p:nvPr/>
        </p:nvSpPr>
        <p:spPr>
          <a:xfrm>
            <a:off x="6886440" y="1916280"/>
            <a:ext cx="210816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ORCENTAJE DE DEDUCTIVAS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6886440" y="2344680"/>
            <a:ext cx="210816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ANTICIP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5"/>
          <p:cNvSpPr/>
          <p:nvPr/>
        </p:nvSpPr>
        <p:spPr>
          <a:xfrm>
            <a:off x="96840" y="2813040"/>
            <a:ext cx="8950320" cy="28386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6"/>
          <p:cNvSpPr/>
          <p:nvPr/>
        </p:nvSpPr>
        <p:spPr>
          <a:xfrm>
            <a:off x="96840" y="5697360"/>
            <a:ext cx="8948880" cy="300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7"/>
          <p:cNvSpPr/>
          <p:nvPr/>
        </p:nvSpPr>
        <p:spPr>
          <a:xfrm>
            <a:off x="108000" y="6087960"/>
            <a:ext cx="1481040" cy="739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0"/>
          <p:cNvSpPr/>
          <p:nvPr/>
        </p:nvSpPr>
        <p:spPr>
          <a:xfrm>
            <a:off x="108000" y="3029040"/>
            <a:ext cx="89265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1"/>
          <p:cNvSpPr/>
          <p:nvPr/>
        </p:nvSpPr>
        <p:spPr>
          <a:xfrm>
            <a:off x="7142040" y="3029040"/>
            <a:ext cx="0" cy="26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5"/>
          <p:cNvSpPr/>
          <p:nvPr/>
        </p:nvSpPr>
        <p:spPr>
          <a:xfrm>
            <a:off x="96840" y="2841480"/>
            <a:ext cx="704520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"/>
              </a:rPr>
              <a:t>DESCRIPCIÓN DE LOS BIE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7"/>
          <p:cNvSpPr/>
          <p:nvPr/>
        </p:nvSpPr>
        <p:spPr>
          <a:xfrm>
            <a:off x="108000" y="5697360"/>
            <a:ext cx="894852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LEÍDO POR LAS PARTES Y ENTERADAS DE SU CONTENIDO Y ALCANCE LEGAL, SE FIRMA EL PRESENTE PEDIDO POR QUINTUPLICADO POR LOS QUE EN ÉL INTERVINIERON, COMO CONSTANCIA DE SU ACEPTACIÓN, EN  LA CIUDAD DE MÉXICO </a:t>
            </a:r>
            <a:r>
              <a:rPr b="0" lang="es-MX" sz="700" spc="-1" strike="noStrike">
                <a:solidFill>
                  <a:srgbClr val="ff0000"/>
                </a:solidFill>
                <a:latin typeface="Arial"/>
              </a:rPr>
              <a:t>(SEÑALAR LA FECHA EN QUE SE FIRMARÁ EL PEDIDO)</a:t>
            </a: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8"/>
          <p:cNvSpPr/>
          <p:nvPr/>
        </p:nvSpPr>
        <p:spPr>
          <a:xfrm>
            <a:off x="1589040" y="1046160"/>
            <a:ext cx="0" cy="382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2"/>
          <p:cNvSpPr/>
          <p:nvPr/>
        </p:nvSpPr>
        <p:spPr>
          <a:xfrm>
            <a:off x="122400" y="824040"/>
            <a:ext cx="907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3"/>
          <p:cNvSpPr/>
          <p:nvPr/>
        </p:nvSpPr>
        <p:spPr>
          <a:xfrm>
            <a:off x="900000" y="330120"/>
            <a:ext cx="14400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SECRETARÍA DE SALUD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ff0000"/>
                </a:solidFill>
                <a:latin typeface="Arial"/>
              </a:rPr>
              <a:t>SEÑALAR EL ÁREA O UNIDAD QUE ADQUIRIRÁ LOS BIENES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5"/>
          <p:cNvSpPr/>
          <p:nvPr/>
        </p:nvSpPr>
        <p:spPr>
          <a:xfrm>
            <a:off x="133200" y="3013200"/>
            <a:ext cx="704556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LAS CARACTERÍSTICAS, ESPECIFICACIONES Y PRECIOS UNITARIOS DE LOS BIENES, SE ENCUENTRAN DESCRITOS EN EL ANEXO ÚNICO DEL PRESENTE PEDIDO, EL CUAL FORMA PARTE INTEGRANTE DEL MISMO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31"/>
          <p:cNvSpPr/>
          <p:nvPr/>
        </p:nvSpPr>
        <p:spPr>
          <a:xfrm>
            <a:off x="1596960" y="1055520"/>
            <a:ext cx="66672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HOJ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 DE 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44"/>
          <p:cNvSpPr/>
          <p:nvPr/>
        </p:nvSpPr>
        <p:spPr>
          <a:xfrm>
            <a:off x="1023840" y="800280"/>
            <a:ext cx="1233720" cy="1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"/>
              </a:rPr>
              <a:t>PEDIDO DE BIE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45"/>
          <p:cNvSpPr/>
          <p:nvPr/>
        </p:nvSpPr>
        <p:spPr>
          <a:xfrm>
            <a:off x="6886440" y="696960"/>
            <a:ext cx="21607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83"/>
          <p:cNvSpPr/>
          <p:nvPr/>
        </p:nvSpPr>
        <p:spPr>
          <a:xfrm>
            <a:off x="3816360" y="6105600"/>
            <a:ext cx="11286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REQUIRENT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89"/>
          <p:cNvSpPr/>
          <p:nvPr/>
        </p:nvSpPr>
        <p:spPr>
          <a:xfrm>
            <a:off x="108000" y="1916280"/>
            <a:ext cx="122400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SUFICIENCIA PRESUPUESTARI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98"/>
          <p:cNvSpPr/>
          <p:nvPr/>
        </p:nvSpPr>
        <p:spPr>
          <a:xfrm>
            <a:off x="7142040" y="5383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08"/>
          <p:cNvSpPr/>
          <p:nvPr/>
        </p:nvSpPr>
        <p:spPr>
          <a:xfrm>
            <a:off x="8561520" y="518652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10"/>
          <p:cNvSpPr/>
          <p:nvPr/>
        </p:nvSpPr>
        <p:spPr>
          <a:xfrm>
            <a:off x="7983360" y="51926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915"/>
          <p:cNvSpPr/>
          <p:nvPr/>
        </p:nvSpPr>
        <p:spPr>
          <a:xfrm>
            <a:off x="7983360" y="5186520"/>
            <a:ext cx="106380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29160" bIns="-2916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16"/>
          <p:cNvSpPr/>
          <p:nvPr/>
        </p:nvSpPr>
        <p:spPr>
          <a:xfrm>
            <a:off x="7983360" y="5003640"/>
            <a:ext cx="106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23"/>
          <p:cNvSpPr/>
          <p:nvPr/>
        </p:nvSpPr>
        <p:spPr>
          <a:xfrm>
            <a:off x="7983360" y="481320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26"/>
          <p:cNvSpPr/>
          <p:nvPr/>
        </p:nvSpPr>
        <p:spPr>
          <a:xfrm>
            <a:off x="8561520" y="481320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936"/>
          <p:cNvSpPr/>
          <p:nvPr/>
        </p:nvSpPr>
        <p:spPr>
          <a:xfrm>
            <a:off x="7147080" y="4813200"/>
            <a:ext cx="190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19"/>
          <p:cNvSpPr/>
          <p:nvPr/>
        </p:nvSpPr>
        <p:spPr>
          <a:xfrm>
            <a:off x="7170840" y="4991040"/>
            <a:ext cx="82080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NTO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8"/>
          <p:cNvSpPr/>
          <p:nvPr/>
        </p:nvSpPr>
        <p:spPr>
          <a:xfrm>
            <a:off x="231840" y="6138720"/>
            <a:ext cx="1203120" cy="1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PROVEEDO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83"/>
          <p:cNvSpPr/>
          <p:nvPr/>
        </p:nvSpPr>
        <p:spPr>
          <a:xfrm>
            <a:off x="7259760" y="6113520"/>
            <a:ext cx="17254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CONTRATANT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98 CuadroTexto"/>
          <p:cNvSpPr/>
          <p:nvPr/>
        </p:nvSpPr>
        <p:spPr>
          <a:xfrm>
            <a:off x="8018640" y="481320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UBTOT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01 CuadroTexto"/>
          <p:cNvSpPr/>
          <p:nvPr/>
        </p:nvSpPr>
        <p:spPr>
          <a:xfrm>
            <a:off x="8018640" y="500364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.V.A.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102 CuadroTexto"/>
          <p:cNvSpPr/>
          <p:nvPr/>
        </p:nvSpPr>
        <p:spPr>
          <a:xfrm>
            <a:off x="8018640" y="519264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7"/>
          <p:cNvSpPr/>
          <p:nvPr/>
        </p:nvSpPr>
        <p:spPr>
          <a:xfrm>
            <a:off x="1625760" y="6086520"/>
            <a:ext cx="1822320" cy="739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7"/>
          <p:cNvSpPr/>
          <p:nvPr/>
        </p:nvSpPr>
        <p:spPr>
          <a:xfrm>
            <a:off x="3468600" y="6093000"/>
            <a:ext cx="182268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7"/>
          <p:cNvSpPr/>
          <p:nvPr/>
        </p:nvSpPr>
        <p:spPr>
          <a:xfrm>
            <a:off x="7209000" y="6093000"/>
            <a:ext cx="182232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83"/>
          <p:cNvSpPr/>
          <p:nvPr/>
        </p:nvSpPr>
        <p:spPr>
          <a:xfrm>
            <a:off x="1692360" y="6103800"/>
            <a:ext cx="1727280" cy="1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ADMINISTRADOR DEL CONTRAT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83"/>
          <p:cNvSpPr/>
          <p:nvPr/>
        </p:nvSpPr>
        <p:spPr>
          <a:xfrm>
            <a:off x="5689440" y="6105600"/>
            <a:ext cx="1128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TÉCNIC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7"/>
          <p:cNvSpPr/>
          <p:nvPr/>
        </p:nvSpPr>
        <p:spPr>
          <a:xfrm>
            <a:off x="5342040" y="6093000"/>
            <a:ext cx="182232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66 Imagen" descr="LOGO SALUD.jpg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108000" y="260280"/>
            <a:ext cx="7920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9:21:21Z</dcterms:created>
  <dc:creator>Mario González</dc:creator>
  <dc:description/>
  <dc:language>en-US</dc:language>
  <cp:lastModifiedBy>CCINSHAE</cp:lastModifiedBy>
  <cp:lastPrinted>2012-06-26T00:59:07Z</cp:lastPrinted>
  <dcterms:modified xsi:type="dcterms:W3CDTF">2017-07-20T18:27:13Z</dcterms:modified>
  <cp:revision>551</cp:revision>
  <dc:subject/>
  <dc:title>Diapositiva 1</dc:title>
</cp:coreProperties>
</file>